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26B6-3557-41CD-91FA-28A6CCAED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ED62-3140-4AF5-9E60-0AD9A447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37D4-B344-440E-81CC-43DA13EA0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D5E4-4890-45C5-9E0A-AA8A11733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C8A7-6CDD-48C2-A172-029F3F2A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B4A4-2935-4369-9BCA-EFD7970D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A319-A374-4274-86D3-15229985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C149-3612-43D5-ACEF-2E4E9BAD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FB9E-2A06-4689-A405-62F5019C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230B-67A2-4A9B-9186-9CE55E2A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36DE-2FF0-4960-9140-56F4E07B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4A89-4884-49EF-87D1-21A2B42D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D6A8-5B81-42F3-A21B-E330FB99F88C}" type="slidenum">
              <a:rPr b="0" lang="tr-TR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6755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3. HAF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CÜMLE TÜRLER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68360" y="734760"/>
            <a:ext cx="760392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2. İsim cümlesi: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Yüklemi ek fiile çekimlenmiş isim veya isim soylu  bir kelime olan cümled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NOT: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Ek fiil, -idi, -imiş, -ise, -idir (-dir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ÖRNE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Sekiz saattir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trendeyim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, tren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boş ve neşesiz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Uzun bir yolculuktan sonra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İncesu’daydı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Arkadaşları arasında hiç tanıdığı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yokt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İnsan,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üç beş damla kan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; /Irmak,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üç beş damla su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6755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C) YÜKLEMİN YERİNE GÖRE CÜMLELER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Yüklemin cümle içindeki yeri bakımından İKİ çeşit cümle vardır: Kurallı ve devrik cüm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1. Kurallı cümle: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Yüklemi sonda bulunan cümledir. Türkçede cümlenin ana öğesi ola yüklem genellikle sonda bulunu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Yüklemi tamamlayan öğeler, yüklemin önünde bulunurla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Yükleme en yakın olan öğe vurgulanmak istenen öğedi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ÖRNEK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Deneme yazarı, her şeyden önce dili çok iyi kullanı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Nezih’i artık çarşıda gören yokt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68360" y="734760"/>
            <a:ext cx="74613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2.Devrik cümle: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Yüklemi sonda bulunmayan cümled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Bu çeşit cümlelere daha çok konuşma dilinde, şiirlerde, atasözleri ve deyimlere rast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ÖRNE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Sakla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samanı,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gelir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zamanı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Bir ümit uğruna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yaşıyoruz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hepimiz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Gün olur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kaybedebilir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insan sağlığın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Olsun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artık dökülen kanlarımın hepsi hel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000" y="500040"/>
            <a:ext cx="7675560" cy="4178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D. ANLAMINA GÖRE CÜMLEL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Anlamına göre cümleler ÜÇ türde incelen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1. Olumlu cümle: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Yargının gerçekleştiğini anlatan cümle türüdür. Yüklem yapma, yapılma veya olma bildir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ÖRNE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Beni bu güzel havalar mahvet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Kurt kocayınca köpeğin maskarası olu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Gerçek belirince yalan ortadan kalkar.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6755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NOT: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Yapı bakımından olumsuz görünen bazı cümleler anlamca olumludur.  Yükleminde olumsuzluk anlamı taşıyan bir cümle “değil” edatı ile birleşince olumlu bir anlam kaz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ÖRNE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Vatan al bayrağın dalgalandığı yer değil midi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O dönemde bunlar bilinmiyor değild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Nasıl cevap vereceğini bilmiyor değild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Bu tür cümlelere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yapıca olumsuz anlamca olumlu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cümleler den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000" y="285480"/>
            <a:ext cx="7675560" cy="4392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b. Olumsuz cümle: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Yargının gerçekleşmediğini anlatan cümlelerd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-ma, -me” olumsuzluk eki, “değil” edatı ve “yok” ismi, cümleyi olumsuz yapan unsurlard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ÖRNE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Salih’i artık çarşıda gören yokt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Bu güler yüzlü adam ben değili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Şimdi o dünyadan hiçbir haber yo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74684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NOT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Ne….ne….” bağlacı da cümlenin anlamını olumsuz yap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ÖRNE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Ne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şair yaş döker,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ne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aşık ağl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Ne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sevenim var,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ne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soranım v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Ne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bir vefa gördüm,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ne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fayda buldu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6755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c. Soru cümlesi: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Soru yoluyla bilgi almayı amaçlayan cümledir. Soru cümlesi olumlu veya olumsuz olabilir. Soru cümleleri genellikle  soru edatı, soru sıfatı, soru zamiri, soru zarfları ile yapılabilmekted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ÖRNE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Neden coşkun akan suların sesi gittikçe dindi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Hangi konuyu anlamadınız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Niçin bu kadar geç kaldınız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Doktor içeride mi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96140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UYGULAM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Aşağıdaki cümlelerin öğelerini bularak cümleleri; yapı, anlam, yüklemin yeri ve yüklemin türü bakımından inceleyeli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Vakit vakit ince bir yağmur serpeliyord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84963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Vakit vakit ince bir yağmur serpeliyord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a. Yapısına göre,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basit cümled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b. Yüklemin türüne göre,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fiil cümles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c. Yüklemin yerine göre,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kurallı cüm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d. Anlamına göre,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olumlu cümled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6755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CÜMLE TÜRLER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Cümleler anlam ve yapılarına, yüklemin türüne ve yüklemin yerine göre şu şekilde sınıflandırıl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A) Yapısına göre cümleler: Basit, birleşik, bağlı, sıral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B) Yüklemin türüne göre: Fiil ve isim cümles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C) Yüklemin yerine göre: Kurallı ve devri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D) Anlamına göre: Olumlu, olumsuz, soru, ünl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Şimdi bu cümle türlerini ayrıntılı şekilde incelemeye çalışalı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84963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2. Suçlar insanların yüzünde görünseydi, aynalar satılmazd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84963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2. Suçlar insanların yüzünde görünseydi, aynalar satılmazd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 u="sng">
                <a:solidFill>
                  <a:srgbClr val="ff0000"/>
                </a:solidFill>
                <a:uFillTx/>
                <a:latin typeface="Calibri"/>
              </a:rPr>
              <a:t>Cümle öğeler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satılmazdı: Yükl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ynalar: Nes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suçlar insanın yüzünde görünseydi: Zarf tümlec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. Yapısına göre,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şartlı birleşik cüm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b. Yüklemin türüne göre,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fiil cümles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. Yüklemin yerine göre,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kurallı cüm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. Anlamına göre,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olumsuz cümle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68360" y="734760"/>
            <a:ext cx="74613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3. Çobanı aslan olan koyun sürüsü, çobanı koyun olan aslan sürüsünden daha iy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6755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3. Çobanı aslan olan koyun sürüsü, çobanı koyun olan aslan sürüsünden daha iy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Cümlenin öğeler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aha iyidir: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Yükl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çobanı aslan olan koyun sürüsü: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Öz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çobanı koyun olan aslan sürüsünden: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Dolaylı tümle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. Yapısına göre,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basit cüm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b. Yüklemin türüne göre,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isim cümles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. Yüklemin yerine göre,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kurallı cüm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. Anlamına göre,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olumlu cümle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6755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marL="457200" indent="-45720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Bilmezdim şarkıların bu kadar güz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elimelerinse kifayetsiz olduğun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Bu derde düşmeden önce. (Orhan Vel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(Bu derde düşmeden önce şarkıların bu kadar güzel, kelimelerinse kifayetsiz olduğunu bilmezdim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74684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marL="457200" indent="-45720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Bilmezdim şarkıların bu kadar güz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elimelerinse kifayetsiz olduğun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Bu derde düşmeden önce. (Orhan Vel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(Bu derde düşmeden önce şarkıların bu kadar güzel, kelimelerinse kifayetsiz olduğunu bilmezdim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 u="sng">
                <a:solidFill>
                  <a:srgbClr val="ff0000"/>
                </a:solidFill>
                <a:uFillTx/>
                <a:latin typeface="Calibri"/>
              </a:rPr>
              <a:t>Cümlenin öğeler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bilmezdim: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Yükl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(Ben):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Gizli öz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şarkıların bu kadar güzel, kelimelerinse kifayetsiz olduğunu: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Belirtili nes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bu derde düşmeden önce: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Zarf tümlec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6755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marL="457200" indent="-45720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Bilmezdim şarkıların bu kadar güz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Kelimelerinse kifayetsiz olduğun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Bu derde düşmeden önce. (Orhan Veli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(Bu derde düşmeden önce şarkıların bu kadar güzel, kelimelerinse kifayetsiz olduğunu bilmezdim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a. Yapısına göre,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basit cüm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b. Yüklemin türüne göre,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fiil cümles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c. Yüklemin yerine göre,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devrik cüm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d. Anlamına göre,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olumsuz cümledi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28760" y="714240"/>
            <a:ext cx="8496000" cy="39434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marL="457200" indent="-45720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Gönlümü yayla yaptım Bingöl çobanları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84963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marL="457200" indent="-45720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Gönlümü yayla yaptım Bingöl çobanları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 u="sng">
                <a:solidFill>
                  <a:srgbClr val="ff0000"/>
                </a:solidFill>
                <a:uFillTx/>
                <a:latin typeface="Calibri"/>
              </a:rPr>
              <a:t>Cümlenin öğeleri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yayla yaptım: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Yükl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(ben):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Gizli öz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gönlümü: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Belirtili nes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Bingöl çobanlarına: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Dolaylı tümleç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a. Yapısına göre,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basit cüm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b. Yüklemin türüne göre,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fiil cümles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c. Yüklemin yerine göre,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devrik cüm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d. Anlamına göre,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olumlu cümledi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68000" y="339840"/>
            <a:ext cx="8496360" cy="4680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KAYNAKÇ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EMİROSMANOĞLU, Ali, </a:t>
            </a:r>
            <a:r>
              <a:rPr b="0" i="1" lang="tr-TR" sz="2200" spc="-1" strike="noStrike">
                <a:solidFill>
                  <a:srgbClr val="000000"/>
                </a:solidFill>
                <a:latin typeface="Calibri"/>
              </a:rPr>
              <a:t>Türkçe- Kompozisyon,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Manisa 200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ERGİN, Muharrem, </a:t>
            </a:r>
            <a:r>
              <a:rPr b="0" i="1" lang="tr-TR" sz="2200" spc="-1" strike="noStrike">
                <a:solidFill>
                  <a:srgbClr val="000000"/>
                </a:solidFill>
                <a:latin typeface="Calibri"/>
              </a:rPr>
              <a:t>Üniversiteler İçin Türk Dili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, Bayrak Yay., İstanbul 2007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KARAHAN, Leyla, </a:t>
            </a:r>
            <a:r>
              <a:rPr b="0" i="1" lang="tr-TR" sz="2200" spc="-1" strike="noStrike">
                <a:solidFill>
                  <a:srgbClr val="000000"/>
                </a:solidFill>
                <a:latin typeface="Calibri"/>
              </a:rPr>
              <a:t>Türkçede Sözdizimi-Cümle Tahlilleri-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, Akçağ Yay., Ankara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KARASOY, Yakup vd., </a:t>
            </a:r>
            <a:r>
              <a:rPr b="0" i="1" lang="tr-TR" sz="2200" spc="-1" strike="noStrike">
                <a:solidFill>
                  <a:srgbClr val="000000"/>
                </a:solidFill>
                <a:latin typeface="Calibri"/>
              </a:rPr>
              <a:t>Uygulamalı Türk Dili ve Kompozisyon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, Sel-ün Yay., Konya 2001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6755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A. YAPISINA GÖRE CÜMLELE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1. Basit cümle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Yapısında isim veya fiil cinsinden tek yüklem bulunan cümle, basit cümledir. Bu cümleler tek bir yargı bildirirler. Yüklem dışındaki öğelerin sayısı önemli değil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ürkçede cümleler genellikle basit yapılıdı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Eğri cetvelden doğru çizgi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çıkmaz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kıllı düşman, akılsız dosttan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yeğdir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Güneş balçıkla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sıvanmaz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Sıcak yaz aylarını geçirmek için deniz kenarlarına, kırlara, tepelere kaçanlar, şimdi birer birer kışlıklarına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dönüyorl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68000" y="285480"/>
            <a:ext cx="7675560" cy="4392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2. Birleşik cümle: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Bir ana cümle ve cümlenin anlamını tamamlayan bir veya daha fazla yardımcı cümle ile kurulan cümlelere deni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İçinde birden fazla yargı bulunan cümlelerdir. Türkçede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şartlı birleşik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ki’li birleşik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ve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iç içe birleşik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olmak üzere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ÜÇ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 çeşit birleşik cümle bulunu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a. Şartlı birleşik cümle: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İçinde şart kipi bulunan cümledi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2200" spc="-1" strike="noStrike">
                <a:solidFill>
                  <a:srgbClr val="ff0000"/>
                </a:solidFill>
                <a:latin typeface="Calibri"/>
              </a:rPr>
              <a:t>Derslerine düzenli çalışırsan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sınıfı kolay geçers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2200" spc="-1" strike="noStrike">
                <a:solidFill>
                  <a:srgbClr val="ff0000"/>
                </a:solidFill>
                <a:latin typeface="Calibri"/>
              </a:rPr>
              <a:t>Pazar günü hava güzel olursa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gezmeye gideceğiz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2200" spc="-1" strike="noStrike">
                <a:solidFill>
                  <a:srgbClr val="ff0000"/>
                </a:solidFill>
                <a:latin typeface="Calibri"/>
              </a:rPr>
              <a:t>Cihanın yurdu hep çiğnense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,/ Çiğnenmez senin yurdun. (M.A.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2200" spc="-1" strike="noStrike">
                <a:solidFill>
                  <a:srgbClr val="ff0000"/>
                </a:solidFill>
                <a:latin typeface="Calibri"/>
              </a:rPr>
              <a:t>Artık demir almak günü gelmişse zamandan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/ Meçhule giden bir gemi kalkar bu limanda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6755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b. Ki’li birleşik cümle: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“ki” bağlacı ile yapılan birleşik cümledir. Ki bağlacı bir fiilden sonra gelince bağlama görevinde kullanılmış olu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ÖRNEK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2200" spc="-1" strike="noStrike">
                <a:solidFill>
                  <a:srgbClr val="ff0000"/>
                </a:solidFill>
                <a:latin typeface="Calibri"/>
              </a:rPr>
              <a:t>Duydum ki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unutmuşsun gözlerimin rengin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2200" spc="-1" strike="noStrike">
                <a:solidFill>
                  <a:srgbClr val="ff0000"/>
                </a:solidFill>
                <a:latin typeface="Calibri"/>
              </a:rPr>
              <a:t>Kızıl havaları seyret ki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akşam olmakt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2200" spc="-1" strike="noStrike">
                <a:solidFill>
                  <a:srgbClr val="ff0000"/>
                </a:solidFill>
                <a:latin typeface="Calibri"/>
              </a:rPr>
              <a:t>Ne büyüksün ki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kanın kurtarıyor tevhid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68360" y="734760"/>
            <a:ext cx="760392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c. İç içe birleşik cümle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: Bir cümlenin herhangi bir görevle başka bir cümlede yer almasıyla meydana gelen birleşik cümledi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ÖRNEK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Edebiyat öğretmeni </a:t>
            </a:r>
            <a:r>
              <a:rPr b="0" i="1" lang="tr-TR" sz="2000" spc="-1" strike="noStrike">
                <a:solidFill>
                  <a:srgbClr val="ff0000"/>
                </a:solidFill>
                <a:latin typeface="Calibri"/>
              </a:rPr>
              <a:t>içinizde “Han Duvarları”nı okuyan var mı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, ded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2000" spc="-1" strike="noStrike">
                <a:solidFill>
                  <a:srgbClr val="ff0000"/>
                </a:solidFill>
                <a:latin typeface="Calibri"/>
              </a:rPr>
              <a:t>Yaşamak zevki nedir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bilmez ölümden korka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Genel müdür, </a:t>
            </a:r>
            <a:r>
              <a:rPr b="0" i="1" lang="tr-TR" sz="2000" spc="-1" strike="noStrike">
                <a:solidFill>
                  <a:srgbClr val="ff0000"/>
                </a:solidFill>
                <a:latin typeface="Calibri"/>
              </a:rPr>
              <a:t>“Kimseye bayrama kadar izin verilmeyecek.”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ed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Emin Bey, sert bir ses tonuyla: </a:t>
            </a:r>
            <a:r>
              <a:rPr b="0" i="1" lang="tr-TR" sz="2000" spc="-1" strike="noStrike">
                <a:solidFill>
                  <a:srgbClr val="ff0000"/>
                </a:solidFill>
                <a:latin typeface="Calibri"/>
              </a:rPr>
              <a:t>“Sen kendini ne sanıyorsun.”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ed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74684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3. Bağlı cümle: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Bağlaçlarla birbirine bağlanan cümlelerdir. Bu cümleler “ki” veya diğer bağlaçlarla kurulurl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ÖRNE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Kırılacak diye öyle korktum ki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Hava bulutlu ve Seyir tepesi rüzgarlı id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Gönlümle oturdum da hüzünlendim o yer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Zekasız kuvvet yıkabilir, fakat yapamaz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6755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4. Sıralı cümleler: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Tek başına bir yargı bildiren cümlelerin bir anlam bütünlüğü içinde oluşturduğu cümleler topluluğudu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İki veya daha fazla cümleden kurulurl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Cümleler birbirinden virgül veya noktalı virgülle ayrıl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ÖRNE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Tozlu ve soluk kırmızı perdelerden yakıcı bir güneş taşıyor, bütün odayı dolduruyord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Sarı çiçeğin saçları yolunmuş, kana bulanmışt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68360" y="285480"/>
            <a:ext cx="7603920" cy="4392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B. YÜKLEMİN TÜRÜNE GÖRE CÜMLEL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Yüklemin türüne göre cümleler İKİ çeşittir.  Fiil cümlesi ve isim cümles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1. Fiil cümlesi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: Yüklemi çekimli bir fiil olan cümledir. Her çeşit iş, oluş ve hareket fiil cümleleri ile karşılanır. Bu sebeple fiil cümleleri isim cümlelerine göre daha fazla kullanıl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ÖRNE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Ressamın içine birdenbire tarifi imkansız bir hüzün çökt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İkinci kata yayvan ve geniş merdivenlerle çıkıl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1T11:00:44Z</dcterms:created>
  <dc:creator>hsn</dc:creator>
  <dc:description/>
  <dc:language>en-US</dc:language>
  <cp:lastModifiedBy>pc</cp:lastModifiedBy>
  <dcterms:modified xsi:type="dcterms:W3CDTF">2018-04-23T19:21:53Z</dcterms:modified>
  <cp:revision>84</cp:revision>
  <dc:subject/>
  <dc:title>3.HAFTA-CÜMLE TÜRLERİ VE CÜMLE ÇÖZÜMLEMELERİ</dc:title>
</cp:coreProperties>
</file>